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4A5-8DF9-4CDF-AB24-494AACC4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359-A25F-49FE-87A9-6EEB0ABD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4B1-7FC2-45F0-9E82-ABB1DCBF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B42-93F3-455A-AD15-C94EBB49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55FB-1F40-4071-9B02-EB54D48A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C2EC-2E7E-4609-A134-7CDFFF26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D8B7-1788-44A2-8393-EF9FAC3B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FE8D-8A2A-457B-91E0-7E9CAD75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CCE9-AF72-4E2B-825F-7588759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C921-83BD-4495-A822-5A278633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C3B4-6294-4FA3-9CB9-377E4D47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55B-4A14-4D84-8F42-11A3F40E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0538-5C60-45E8-BD70-15155FB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5529-BAFD-4EFA-A641-E8DC81F9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B077-00A0-4846-A1A2-25930F7A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B8CF-04E3-4882-9DA9-38E36339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738F-0732-4658-A18A-0F68761A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EDA-26FD-47CF-A5E4-EBF72CB2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865-9133-4A21-9100-4C922502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052-E713-462B-B40B-8B769B8B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0CD-D915-4D61-8439-542A488F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952-DBAD-413B-AA3C-612ACDF8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9A8-9801-40F0-9DFE-15ED4B20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7A1-3AC4-40AD-9FEA-015DD359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B464-962A-4034-84B0-84E0631913D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45A9-AF49-4145-B6D0-6FBC07A288E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n-voting – Problem or no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/3 of voting population is eligible to vo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enerally turnout of registered voters is around 6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don’t they register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pathy about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dividual responsibility (not automatic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st” of registering increa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tor Voter Law (1993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ires states to allow people to register to vote a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MV’s (while applying for driver’s licens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gistration through mai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ate offi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s that provide public ass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o supported, who didn’t?  Wh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didn’t it change the problem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oting not all democracy is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 one of the worst at registering and voting but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e of the best regarding actually taking civic action/being involved in gover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uick history lesson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676160"/>
            <a:ext cx="820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onial governments to 1824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rge property owners (usually white mal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24 - White male suffrage (over 2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67 - African-American suffrag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chnically under the 15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, not enforced until Voting Rights Act of 196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19 - Female suffrag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9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61 – DC suffr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23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71 - New age limit of 18 ye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26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ys to keep people from vot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iginally state issue (Constitution vagu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tricts created through census in 184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7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 gave people right to vote for Sen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mend. stated that can not be banned by r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teracy te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ll taxes (banned via 24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mendment, 1964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ing who could vote in primary elec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randfather clau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imid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t secret ballot (Australian ballo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oting Rights Act (1965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t national requirement on vot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21 year olds (later 18) are eligible if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vide residency of more than 30 day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teracy and Poll Taxes illeg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in area where English is second language, options must be presen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ll watchers sent to areas under 50% of registered voters vote in Pres. Elec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defines America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luntary activ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li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of the rest of the world is different (politics defines you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st likely voter” is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ver 45 years old (male or fema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as at least graduated from colle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gio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te – if 1, 3, and 4 are true for a minority group they typically vote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an whites (however, they represent a small percentag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1964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 why such a bad turnou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ording to political scientists it is because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pulation is more youthful than Euro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litical parties not as effective today to mobilize the vo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gistration limits (must register by…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 voting is costl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matter as much in US (due to size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sappointment in candidates/the system does not affect turn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02:22Z</dcterms:created>
  <dc:creator>Brent J. Freccia</dc:creator>
  <dc:description/>
  <dc:language>en-US</dc:language>
  <cp:lastModifiedBy>Brent J. Freccia</cp:lastModifiedBy>
  <dcterms:modified xsi:type="dcterms:W3CDTF">2008-12-08T17:24:06Z</dcterms:modified>
  <cp:revision>1</cp:revision>
  <dc:subject/>
  <dc:title>Non-voting – Problem or not?</dc:title>
</cp:coreProperties>
</file>